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B46E-54FF-40F7-8599-7A98D23F0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1EB-3257-4664-9536-972164C6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1D5-207C-4A1F-99CA-25383FD2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5E7-35B5-4370-8AB2-C760FE1C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66E-2322-4F9C-985C-D640266A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0B7-40B1-4EDE-A034-6B8E3A2A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DDA-A383-4764-81A8-D4918B19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676-83EF-4E97-BDC8-B61A350D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B44-BF3B-4607-A1A4-31B68FD5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7F8-10C9-485B-AB49-0116CAD5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47B-7392-4DC6-B9A7-4F51C1D5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7E1-BEA0-4625-9253-CE11AE43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83A-B61D-4639-B60D-ED74AFE4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7BF8-B950-431A-B38D-7CB122BC1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&amp;ENewsSalaryReport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8.png"/><Relationship Id="rId17" Type="http://schemas.openxmlformats.org/officeDocument/2006/relationships/image" Target="../media/image7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33720" y="2209680"/>
            <a:ext cx="5867280" cy="2605320"/>
            <a:chOff x="2133720" y="2209680"/>
            <a:chExt cx="5867280" cy="26053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2133720" y="2209680"/>
              <a:ext cx="3473280" cy="26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095880" y="26668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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2240" y="152280"/>
            <a:ext cx="87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apillary Tube-Like Structur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thin 3T3 Fibrob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04920" y="1295280"/>
            <a:ext cx="2590200" cy="5227560"/>
            <a:chOff x="304920" y="1295280"/>
            <a:chExt cx="2590200" cy="522756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337320" y="4925520"/>
              <a:ext cx="2522880" cy="159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345960" y="1295280"/>
              <a:ext cx="2505240" cy="8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324360" y="2172240"/>
              <a:ext cx="254844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304920" y="3382200"/>
              <a:ext cx="259020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598040" y="1956600"/>
              <a:ext cx="180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8040" y="3123360"/>
              <a:ext cx="180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99840" y="4668120"/>
              <a:ext cx="180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505320" y="1981080"/>
            <a:ext cx="48258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1600" y="30492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000"/>
                </a:solidFill>
                <a:latin typeface="Arial"/>
              </a:rPr>
              <a:t>What is Chemical Engineer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1960" y="1278000"/>
            <a:ext cx="7969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s focus on Useful Chemistry and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lve problems and produce materials profit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s are NOT Chemists or Biolog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mical Engineering earn on average $15,000_x000b_more annually than Chem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ing is a superb rout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 School, Law School, MBA, and Ph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 Engineers you may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1600" y="30492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000"/>
                </a:solidFill>
                <a:latin typeface="Arial"/>
              </a:rPr>
              <a:t>What is Chemical Engineer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1960" y="1219320"/>
            <a:ext cx="79693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s focus on Useful Chemistry and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lve problems and produce materials profit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ro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edical instruments and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ssu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merican Institute of Chemical Engineers (AI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practicing Chemical Engineers into 18 div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" y="60012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000"/>
                </a:solidFill>
                <a:latin typeface="Arial"/>
              </a:rPr>
              <a:t>Chemical Engineering Co-op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280" y="2131920"/>
            <a:ext cx="853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tart their co-op experience at the beginning of their Sophomore year. Among companies participating in the program ar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39960" y="3047760"/>
            <a:ext cx="350496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 Pla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 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athon Ashland Petrol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pherd 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 C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briz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84520" y="3048120"/>
            <a:ext cx="4027680" cy="26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ter &amp; G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-L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g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P/Am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hm &amp; H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1600" y="60012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Arial"/>
              </a:rPr>
              <a:t>Chemical Engineering Curriculum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25200" y="1600200"/>
            <a:ext cx="4027320" cy="303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an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 to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11400" y="1600200"/>
            <a:ext cx="4027320" cy="31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omore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s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ngth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Thermo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&amp; Energy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ering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" y="38088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Arial"/>
              </a:rPr>
              <a:t>Chemical Engineering Curriculum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66320" y="1485720"/>
            <a:ext cx="3505320" cy="32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Junior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Electric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. Eng. Thermo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e &amp; Properties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Heat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0240" y="1523520"/>
            <a:ext cx="3505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r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tical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s of  Mass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. E. Lab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1600" y="60012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Arial"/>
              </a:rPr>
              <a:t>Chemical Engineering Curriculum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040" y="1612440"/>
            <a:ext cx="7162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. E Lab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Design I &amp;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ing Se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El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0800" y="577800"/>
            <a:ext cx="752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Directing Cell Organization and Migration</a:t>
            </a:r>
            <a:br>
              <a:rPr sz="29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collaboration with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Chia-Chi Ho (Chemical &amp; Materials Engineering, University of Cincinna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39760" y="1600200"/>
            <a:ext cx="5064480" cy="364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403000" y="5361120"/>
            <a:ext cx="4338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ocal Reconstruction of Liver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people.hsc.edu/faculty-staff/edwardd/edsweb01/microscopy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f. Devlin, Biology Department Hampden-Sydney Colle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038640" y="2311560"/>
            <a:ext cx="1361880" cy="541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5880" y="2106720"/>
            <a:ext cx="1563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patocy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nucleus labelled blu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654520" y="3530520"/>
            <a:ext cx="1571760" cy="474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75160" y="3362400"/>
            <a:ext cx="17377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pillaries (sinusoid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2240" y="152280"/>
            <a:ext cx="87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cropatterning of Human Microvascular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dothelial Cells with 3T3 Fibrob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1143000"/>
            <a:ext cx="7391160" cy="5714640"/>
            <a:chOff x="838080" y="1143000"/>
            <a:chExt cx="7391160" cy="57146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5465880" y="1143000"/>
              <a:ext cx="2763360" cy="57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838080" y="1143000"/>
              <a:ext cx="3355920" cy="5515200"/>
              <a:chOff x="838080" y="1143000"/>
              <a:chExt cx="3355920" cy="55152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884160" y="1438920"/>
                <a:ext cx="2547360" cy="1121040"/>
                <a:chOff x="884160" y="1438920"/>
                <a:chExt cx="2547360" cy="11210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84160" y="1438920"/>
                  <a:ext cx="2547360" cy="11210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>
                        <a:alpha val="37254"/>
                      </a:srgbClr>
                    </a:gs>
                    <a:gs pos="100000">
                      <a:srgbClr val="eaeaea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" name=""/>
                <p:cNvGrpSpPr/>
                <p:nvPr/>
              </p:nvGrpSpPr>
              <p:grpSpPr>
                <a:xfrm>
                  <a:off x="1093320" y="1792080"/>
                  <a:ext cx="2091960" cy="407880"/>
                  <a:chOff x="1093320" y="1792080"/>
                  <a:chExt cx="2091960" cy="40788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2340000" y="1792080"/>
                    <a:ext cx="530280" cy="407880"/>
                  </a:xfrm>
                  <a:prstGeom prst="parallelogram">
                    <a:avLst>
                      <a:gd name="adj" fmla="val 9129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023560" y="1792080"/>
                    <a:ext cx="530280" cy="407880"/>
                  </a:xfrm>
                  <a:prstGeom prst="parallelogram">
                    <a:avLst>
                      <a:gd name="adj" fmla="val 9129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707120" y="1792080"/>
                    <a:ext cx="532440" cy="407880"/>
                  </a:xfrm>
                  <a:prstGeom prst="parallelogram">
                    <a:avLst>
                      <a:gd name="adj" fmla="val 9166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391400" y="1792080"/>
                    <a:ext cx="530640" cy="407880"/>
                  </a:xfrm>
                  <a:prstGeom prst="parallelogram">
                    <a:avLst>
                      <a:gd name="adj" fmla="val 9135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2654640" y="1792080"/>
                    <a:ext cx="530640" cy="407880"/>
                  </a:xfrm>
                  <a:prstGeom prst="parallelogram">
                    <a:avLst>
                      <a:gd name="adj" fmla="val 9135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093320" y="1792080"/>
                    <a:ext cx="530280" cy="407880"/>
                  </a:xfrm>
                  <a:prstGeom prst="parallelogram">
                    <a:avLst>
                      <a:gd name="adj" fmla="val 9129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1589760" y="2566800"/>
                <a:ext cx="2419920" cy="522000"/>
                <a:chOff x="1589760" y="2566800"/>
                <a:chExt cx="2419920" cy="522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718640" y="2566800"/>
                  <a:ext cx="2291040" cy="52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ndothelial 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89760" y="2580480"/>
                  <a:ext cx="1800" cy="2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589760" y="3952440"/>
                <a:ext cx="2301480" cy="500760"/>
                <a:chOff x="1589760" y="3952440"/>
                <a:chExt cx="2301480" cy="5007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589760" y="3978000"/>
                  <a:ext cx="180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718640" y="3952440"/>
                  <a:ext cx="2172600" cy="50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hitosan so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589760" y="5348520"/>
                <a:ext cx="2604240" cy="569880"/>
                <a:chOff x="1589760" y="5348520"/>
                <a:chExt cx="2604240" cy="569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589760" y="5384520"/>
                  <a:ext cx="1800" cy="20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714320" y="5348520"/>
                  <a:ext cx="247968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broblast 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884160" y="2717640"/>
                <a:ext cx="2547000" cy="1121040"/>
                <a:chOff x="884160" y="2717640"/>
                <a:chExt cx="2547000" cy="11210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84160" y="2717640"/>
                  <a:ext cx="2547000" cy="11210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>
                        <a:alpha val="37254"/>
                      </a:srgbClr>
                    </a:gs>
                    <a:gs pos="100000">
                      <a:srgbClr val="eaeaea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1092600" y="3069000"/>
                  <a:ext cx="2091960" cy="407520"/>
                  <a:chOff x="1092600" y="3069000"/>
                  <a:chExt cx="2091960" cy="40752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339280" y="3069000"/>
                    <a:ext cx="530280" cy="407520"/>
                  </a:xfrm>
                  <a:prstGeom prst="parallelogram">
                    <a:avLst>
                      <a:gd name="adj" fmla="val 9137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022840" y="3069000"/>
                    <a:ext cx="530280" cy="407520"/>
                  </a:xfrm>
                  <a:prstGeom prst="parallelogram">
                    <a:avLst>
                      <a:gd name="adj" fmla="val 9137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706400" y="3069000"/>
                    <a:ext cx="532440" cy="407520"/>
                  </a:xfrm>
                  <a:prstGeom prst="parallelogram">
                    <a:avLst>
                      <a:gd name="adj" fmla="val 9174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390680" y="3069000"/>
                    <a:ext cx="530640" cy="407520"/>
                  </a:xfrm>
                  <a:prstGeom prst="parallelogram">
                    <a:avLst>
                      <a:gd name="adj" fmla="val 91438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653920" y="3069000"/>
                    <a:ext cx="530640" cy="407520"/>
                  </a:xfrm>
                  <a:prstGeom prst="parallelogram">
                    <a:avLst>
                      <a:gd name="adj" fmla="val 91438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092600" y="3069000"/>
                    <a:ext cx="530280" cy="407520"/>
                  </a:xfrm>
                  <a:prstGeom prst="parallelogram">
                    <a:avLst>
                      <a:gd name="adj" fmla="val 9137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1325880" y="3067920"/>
                  <a:ext cx="1601280" cy="413280"/>
                  <a:chOff x="1325880" y="3067920"/>
                  <a:chExt cx="1601280" cy="413280"/>
                </a:xfrm>
              </p:grpSpPr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556360" y="3074760"/>
                    <a:ext cx="370800" cy="403920"/>
                    <a:chOff x="2556360" y="3074760"/>
                    <a:chExt cx="370800" cy="40392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 rot="17400000">
                      <a:off x="2793600" y="31042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17400000">
                      <a:off x="2703960" y="31924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rot="17400000">
                      <a:off x="2622240" y="327816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 rot="17400000">
                      <a:off x="2558520" y="33519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2249280" y="3077280"/>
                    <a:ext cx="371160" cy="403920"/>
                    <a:chOff x="2249280" y="3077280"/>
                    <a:chExt cx="371160" cy="40392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 rot="17400000">
                      <a:off x="2486880" y="3106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rot="17400000">
                      <a:off x="2396880" y="31950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rot="17400000">
                      <a:off x="2315160" y="328068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rot="17400000">
                      <a:off x="2251440" y="33544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1945080" y="3067920"/>
                    <a:ext cx="370800" cy="403920"/>
                    <a:chOff x="1945080" y="3067920"/>
                    <a:chExt cx="370800" cy="40392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 rot="17400000">
                      <a:off x="2182320" y="3097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 rot="17400000">
                      <a:off x="2092680" y="31856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 rot="17400000">
                      <a:off x="2010960" y="327132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 rot="17400000">
                      <a:off x="1947240" y="3345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1619640" y="3070080"/>
                    <a:ext cx="370800" cy="403920"/>
                    <a:chOff x="1619640" y="3070080"/>
                    <a:chExt cx="370800" cy="40392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 rot="17400000">
                      <a:off x="1856880" y="30996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 rot="17400000">
                      <a:off x="1767240" y="3187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 rot="17400000">
                      <a:off x="1685520" y="327348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rot="17400000">
                      <a:off x="1621800" y="33472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1325880" y="3067920"/>
                    <a:ext cx="371160" cy="403920"/>
                    <a:chOff x="1325880" y="3067920"/>
                    <a:chExt cx="371160" cy="40392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 rot="17400000">
                      <a:off x="1563480" y="3097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rot="17400000">
                      <a:off x="1473480" y="31856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rot="17400000">
                      <a:off x="1391760" y="327132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 rot="17400000">
                      <a:off x="1328040" y="3345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838080" y="4115520"/>
                <a:ext cx="2547720" cy="1121040"/>
                <a:chOff x="838080" y="4115520"/>
                <a:chExt cx="2547720" cy="112104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38080" y="4115520"/>
                  <a:ext cx="2547720" cy="1121040"/>
                  <a:chOff x="838080" y="4115520"/>
                  <a:chExt cx="2547720" cy="11210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38080" y="4115520"/>
                    <a:ext cx="2547720" cy="11210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>
                          <a:alpha val="37254"/>
                        </a:srgbClr>
                      </a:gs>
                      <a:gs pos="100000">
                        <a:srgbClr val="eaeaea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1047240" y="4468680"/>
                    <a:ext cx="2091960" cy="407880"/>
                    <a:chOff x="1047240" y="4468680"/>
                    <a:chExt cx="2091960" cy="40788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294280" y="4468680"/>
                      <a:ext cx="530280" cy="407880"/>
                    </a:xfrm>
                    <a:prstGeom prst="parallelogram">
                      <a:avLst>
                        <a:gd name="adj" fmla="val 91295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1977480" y="4468680"/>
                      <a:ext cx="530280" cy="407880"/>
                    </a:xfrm>
                    <a:prstGeom prst="parallelogram">
                      <a:avLst>
                        <a:gd name="adj" fmla="val 91295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1661040" y="4468680"/>
                      <a:ext cx="532440" cy="407880"/>
                    </a:xfrm>
                    <a:prstGeom prst="parallelogram">
                      <a:avLst>
                        <a:gd name="adj" fmla="val 91667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1345320" y="4468680"/>
                      <a:ext cx="530640" cy="407880"/>
                    </a:xfrm>
                    <a:prstGeom prst="parallelogram">
                      <a:avLst>
                        <a:gd name="adj" fmla="val 91357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608560" y="4468680"/>
                      <a:ext cx="530640" cy="407880"/>
                    </a:xfrm>
                    <a:prstGeom prst="parallelogram">
                      <a:avLst>
                        <a:gd name="adj" fmla="val 91357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047240" y="4468680"/>
                      <a:ext cx="530280" cy="407880"/>
                    </a:xfrm>
                    <a:prstGeom prst="parallelogram">
                      <a:avLst>
                        <a:gd name="adj" fmla="val 91295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1283040" y="4467240"/>
                  <a:ext cx="1602720" cy="416520"/>
                  <a:chOff x="1283040" y="4467240"/>
                  <a:chExt cx="1602720" cy="41652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2514240" y="4474080"/>
                    <a:ext cx="371520" cy="407160"/>
                    <a:chOff x="2514240" y="4474080"/>
                    <a:chExt cx="371520" cy="40716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 rot="17400000">
                      <a:off x="2751480" y="450432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rot="17400000">
                      <a:off x="2661480" y="459324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17400000">
                      <a:off x="2580120" y="467928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 rot="17400000">
                      <a:off x="2516040" y="475416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206800" y="4476600"/>
                    <a:ext cx="371520" cy="407160"/>
                    <a:chOff x="2206800" y="4476600"/>
                    <a:chExt cx="371520" cy="407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 rot="17400000">
                      <a:off x="2444040" y="450684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rot="17400000">
                      <a:off x="2354040" y="459576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 rot="17400000">
                      <a:off x="2272680" y="468180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17400000">
                      <a:off x="2208600" y="47566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1902600" y="4467240"/>
                    <a:ext cx="371520" cy="407160"/>
                    <a:chOff x="1902600" y="4467240"/>
                    <a:chExt cx="371520" cy="4071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17400000">
                      <a:off x="2139840" y="44974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17400000">
                      <a:off x="2049840" y="458640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 rot="17400000">
                      <a:off x="1968480" y="467244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 rot="17400000">
                      <a:off x="1904400" y="474732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1576800" y="4469400"/>
                    <a:ext cx="371520" cy="407160"/>
                    <a:chOff x="1576800" y="4469400"/>
                    <a:chExt cx="371520" cy="40716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rot="17400000">
                      <a:off x="1814040" y="449964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rot="17400000">
                      <a:off x="1724040" y="458856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17400000">
                      <a:off x="1642680" y="467460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rot="17400000">
                      <a:off x="1578600" y="47494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1283040" y="4467240"/>
                    <a:ext cx="371520" cy="407160"/>
                    <a:chOff x="1283040" y="4467240"/>
                    <a:chExt cx="371520" cy="4071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 rot="17400000">
                      <a:off x="1520280" y="44974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rot="17400000">
                      <a:off x="1430280" y="458640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 rot="17400000">
                      <a:off x="1348920" y="467244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rot="17400000">
                      <a:off x="1284840" y="474732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0" name=""/>
              <p:cNvGrpSpPr/>
              <p:nvPr/>
            </p:nvGrpSpPr>
            <p:grpSpPr>
              <a:xfrm>
                <a:off x="862200" y="5537160"/>
                <a:ext cx="2547000" cy="1121040"/>
                <a:chOff x="862200" y="5537160"/>
                <a:chExt cx="2547000" cy="11210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62200" y="5537160"/>
                  <a:ext cx="2547000" cy="11210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>
                        <a:alpha val="37254"/>
                      </a:srgbClr>
                    </a:gs>
                    <a:gs pos="100000">
                      <a:srgbClr val="eaeaea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1070640" y="5891400"/>
                  <a:ext cx="2093400" cy="406080"/>
                  <a:chOff x="1070640" y="5891400"/>
                  <a:chExt cx="2093400" cy="4060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2318400" y="5891400"/>
                    <a:ext cx="530640" cy="406080"/>
                  </a:xfrm>
                  <a:prstGeom prst="parallelogram">
                    <a:avLst>
                      <a:gd name="adj" fmla="val 91761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01600" y="5891400"/>
                    <a:ext cx="530640" cy="406080"/>
                  </a:xfrm>
                  <a:prstGeom prst="parallelogram">
                    <a:avLst>
                      <a:gd name="adj" fmla="val 91761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684800" y="5891400"/>
                    <a:ext cx="532800" cy="406080"/>
                  </a:xfrm>
                  <a:prstGeom prst="parallelogram">
                    <a:avLst>
                      <a:gd name="adj" fmla="val 92135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369080" y="5891400"/>
                    <a:ext cx="531000" cy="406080"/>
                  </a:xfrm>
                  <a:prstGeom prst="parallelogram">
                    <a:avLst>
                      <a:gd name="adj" fmla="val 91824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633040" y="5891400"/>
                    <a:ext cx="531000" cy="406080"/>
                  </a:xfrm>
                  <a:prstGeom prst="parallelogram">
                    <a:avLst>
                      <a:gd name="adj" fmla="val 91824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070640" y="5891400"/>
                    <a:ext cx="530640" cy="406080"/>
                  </a:xfrm>
                  <a:prstGeom prst="parallelogram">
                    <a:avLst>
                      <a:gd name="adj" fmla="val 91761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724120" y="5908680"/>
                  <a:ext cx="305640" cy="384480"/>
                  <a:chOff x="2724120" y="5908680"/>
                  <a:chExt cx="305640" cy="3844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17400000">
                    <a:off x="2718000" y="617868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6600000">
                    <a:off x="2774160" y="610092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7400000">
                    <a:off x="2850840" y="601596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6600000">
                    <a:off x="2904840" y="594360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312560" y="5889240"/>
                  <a:ext cx="1602720" cy="413280"/>
                  <a:chOff x="1312560" y="5889240"/>
                  <a:chExt cx="1602720" cy="413280"/>
                </a:xfrm>
              </p:grpSpPr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2544120" y="5896080"/>
                    <a:ext cx="371160" cy="403920"/>
                    <a:chOff x="2544120" y="5896080"/>
                    <a:chExt cx="371160" cy="4039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7400000">
                      <a:off x="2781720" y="59256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7400000">
                      <a:off x="2691720" y="6013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rot="17400000">
                      <a:off x="2610000" y="609948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 rot="17400000">
                      <a:off x="2546280" y="61732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2236680" y="5898600"/>
                    <a:ext cx="371160" cy="403920"/>
                    <a:chOff x="2236680" y="5898600"/>
                    <a:chExt cx="371160" cy="40392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 rot="17400000">
                      <a:off x="2474280" y="5928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rot="17400000">
                      <a:off x="2384280" y="60163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17400000">
                      <a:off x="2302560" y="610200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rot="17400000">
                      <a:off x="2238840" y="6175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1932120" y="5889240"/>
                    <a:ext cx="371160" cy="403920"/>
                    <a:chOff x="1932120" y="5889240"/>
                    <a:chExt cx="371160" cy="40392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rot="17400000">
                      <a:off x="2169720" y="59187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17400000">
                      <a:off x="2079720" y="60069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 rot="17400000">
                      <a:off x="1998000" y="609264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7400000">
                      <a:off x="1934280" y="6166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606320" y="5891400"/>
                    <a:ext cx="371160" cy="403920"/>
                    <a:chOff x="1606320" y="5891400"/>
                    <a:chExt cx="371160" cy="4039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rot="17400000">
                      <a:off x="1843920" y="59209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rot="17400000">
                      <a:off x="1753920" y="6009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rot="17400000">
                      <a:off x="1672200" y="609480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rot="17400000">
                      <a:off x="1608480" y="61686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1312560" y="5889240"/>
                    <a:ext cx="371160" cy="403920"/>
                    <a:chOff x="1312560" y="5889240"/>
                    <a:chExt cx="371160" cy="40392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rot="17400000">
                      <a:off x="1550160" y="59187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7400000">
                      <a:off x="1460160" y="60069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rot="17400000">
                      <a:off x="1378440" y="609264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rot="17400000">
                      <a:off x="1314720" y="6166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418480" y="5916240"/>
                  <a:ext cx="305640" cy="384480"/>
                  <a:chOff x="2418480" y="5916240"/>
                  <a:chExt cx="305640" cy="3844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7400000">
                    <a:off x="2412360" y="618624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6600000">
                    <a:off x="2468520" y="610848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7400000">
                    <a:off x="2544840" y="602352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6600000">
                    <a:off x="2599200" y="595116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1790640" y="5912640"/>
                  <a:ext cx="306360" cy="383760"/>
                  <a:chOff x="1790640" y="5912640"/>
                  <a:chExt cx="306360" cy="38376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17400000">
                    <a:off x="1785240" y="6181560"/>
                    <a:ext cx="129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6600000">
                    <a:off x="1841760" y="6104520"/>
                    <a:ext cx="1303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7400000">
                    <a:off x="1918080" y="6019920"/>
                    <a:ext cx="13104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6600000">
                    <a:off x="1972080" y="5947560"/>
                    <a:ext cx="129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2091240" y="5928120"/>
                  <a:ext cx="304560" cy="386640"/>
                  <a:chOff x="2091240" y="5928120"/>
                  <a:chExt cx="304560" cy="38664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17400000">
                    <a:off x="2085120" y="6199920"/>
                    <a:ext cx="13104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6600000">
                    <a:off x="2141280" y="6122160"/>
                    <a:ext cx="131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5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7400000">
                    <a:off x="2216520" y="6036480"/>
                    <a:ext cx="132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6600000">
                    <a:off x="2270520" y="5963760"/>
                    <a:ext cx="13104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7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463400" y="5919120"/>
                  <a:ext cx="305640" cy="384480"/>
                  <a:chOff x="1463400" y="5919120"/>
                  <a:chExt cx="305640" cy="3844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7400000">
                    <a:off x="1457280" y="618912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8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6600000">
                    <a:off x="1513440" y="611136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9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7400000">
                    <a:off x="1589760" y="602640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0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rot="6600000">
                    <a:off x="1644120" y="595404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1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185840" y="5900040"/>
                  <a:ext cx="305640" cy="384480"/>
                  <a:chOff x="1185840" y="5900040"/>
                  <a:chExt cx="305640" cy="3844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rot="17400000">
                    <a:off x="1179720" y="617004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rot="6600000">
                    <a:off x="1235880" y="609228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7400000">
                    <a:off x="1312200" y="600732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6600000">
                    <a:off x="1366560" y="593496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5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"/>
              <p:cNvSpPr/>
              <p:nvPr/>
            </p:nvSpPr>
            <p:spPr>
              <a:xfrm>
                <a:off x="2493000" y="114300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ll-resistant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olyelectrolyt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85680" y="1548720"/>
                <a:ext cx="1260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24:43Z</dcterms:created>
  <dc:creator>Carlos Co</dc:creator>
  <dc:description/>
  <dc:language>en-US</dc:language>
  <cp:lastModifiedBy>Carlos Co</cp:lastModifiedBy>
  <dcterms:modified xsi:type="dcterms:W3CDTF">2006-09-26T16:47:51Z</dcterms:modified>
  <cp:revision>20</cp:revision>
  <dc:subject/>
  <dc:title>Slide 1</dc:title>
</cp:coreProperties>
</file>